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gif" ContentType="image/gif"/>
  <Override PartName="/ppt/media/image24.jpeg" ContentType="image/jpeg"/>
  <Override PartName="/ppt/media/image22.png" ContentType="image/pn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2640" y="676440"/>
            <a:ext cx="4568760" cy="344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631B9-1079-4A78-B7C5-CD35581875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9C725-5E06-49AC-9D8B-18E135AF99D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  <p:sp>
        <p:nvSpPr>
          <p:cNvPr id="17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5C8E4-F12C-4505-866B-15C87644AD1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7C685-59B3-4F4E-A680-A2E920193D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94704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2C005-E5B2-4656-8918-75ADA4F8FA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4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289A5-AFC8-4168-ABE7-15ABC3C90A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820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956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459B8-AEF1-4B08-BAD1-36BDF9616B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AF645-4248-4E6D-8A48-205B02F7CD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9E621-6218-4559-9628-D855BAB023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D4C18-F449-441A-80F5-FACE343637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FA458-C67A-4082-9D53-541BCB6EEA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7FB47-83BE-471F-9EE3-731D376B3E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0DE8B-030A-4F69-8415-EFF56E6115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4222D-DD5C-49DE-8EAC-D810E78C02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3D29A-2BEF-4716-82BE-E47FFCF660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24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022AA-A8CE-4DF9-8FE8-46ECCF2672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BC020-9133-4160-9D95-5003EB9C3E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394704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BA5DA-AE00-44DA-BB2C-6C3E02CE21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24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8E106-35D6-44CE-B6FC-1BFF35254B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820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956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A372A-FB97-4263-A2F1-A98C11D2AD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DA769-4DF2-4FFD-AF34-58C8D7D9E5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C6EA9-21D7-4612-82A4-D3DB34502A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1DEFD-04B0-4881-A1C3-6CFC0AF005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C903D-76AA-4150-AFE8-19B29EF7FB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1C27A-CFB9-4BB2-AB03-8B8A36EAB2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4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AF571-E0F8-4569-84E9-73621A3F55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604DB-9A20-41CF-B0BB-BA6A9E05B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0680" cy="1979280"/>
            <a:chOff x="0" y="0"/>
            <a:chExt cx="7240680" cy="1979280"/>
          </a:xfrm>
        </p:grpSpPr>
        <p:sp>
          <p:nvSpPr>
            <p:cNvPr id="1" name=""/>
            <p:cNvSpPr/>
            <p:nvPr/>
          </p:nvSpPr>
          <p:spPr>
            <a:xfrm>
              <a:off x="0" y="924840"/>
              <a:ext cx="7121520" cy="105444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0680" cy="190188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79BFF-BC81-40E1-890C-74FBA839BF7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6760" cy="5941800"/>
            <a:chOff x="0" y="0"/>
            <a:chExt cx="8456760" cy="5941800"/>
          </a:xfrm>
        </p:grpSpPr>
        <p:sp>
          <p:nvSpPr>
            <p:cNvPr id="45" name=""/>
            <p:cNvSpPr/>
            <p:nvPr/>
          </p:nvSpPr>
          <p:spPr>
            <a:xfrm>
              <a:off x="0" y="2285280"/>
              <a:ext cx="8182080" cy="365652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1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6760" cy="585468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30FEA4F-9570-4DD3-8C4E-1D95FAA752C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3640" y="19890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икто не забыт, ничто не забыто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280" y="4868640"/>
            <a:ext cx="8226360" cy="59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1 кв. кат. Максимова С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исьма с фрон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443640" y="1916280"/>
            <a:ext cx="2144880" cy="4032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55640" y="1989000"/>
            <a:ext cx="5111640" cy="38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11280" y="-14400"/>
            <a:ext cx="7993080" cy="6872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8820000" cy="57852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250920" y="2060640"/>
            <a:ext cx="8281800" cy="1631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локада   Ленинграда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 -6 L -3.36572 -6 L 0.05121 0.37428 E">
                                      <p:cBhvr>
                                        <p:cTn id="150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click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click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627280" y="-6480"/>
            <a:ext cx="5473800" cy="5327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3648240"/>
            <a:ext cx="5219640" cy="32097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627280" cy="3645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219640" y="4797360"/>
            <a:ext cx="3924360" cy="2060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8028000" y="0"/>
            <a:ext cx="1116000" cy="3284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8028000" y="1557360"/>
            <a:ext cx="1116000" cy="32846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395280" y="836640"/>
            <a:ext cx="2808360" cy="1079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2329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250 г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724360" y="4941720"/>
            <a:ext cx="3419640" cy="882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46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125 г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995640" y="3645000"/>
            <a:ext cx="4429080" cy="27860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57160" y="1143000"/>
            <a:ext cx="6786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2f2f2"/>
                </a:solidFill>
                <a:latin typeface="Calibri"/>
              </a:rPr>
              <a:t>«</a:t>
            </a:r>
            <a:r>
              <a:rPr b="1" lang="ru-RU" sz="2000" spc="-1" strike="noStrike">
                <a:solidFill>
                  <a:srgbClr val="f2f2f2"/>
                </a:solidFill>
                <a:latin typeface="Calibri"/>
              </a:rPr>
              <a:t>Женя умерла 28 декабря, в 12 часов 30 минут утра, 1941го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Calibri"/>
              </a:rPr>
              <a:t>Бабушка умерла 25 января в 3 часа дня  1942 г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Calibri"/>
              </a:rPr>
              <a:t>Лека умер 17 марта в 6 часов утра 1942 г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Calibri"/>
              </a:rPr>
              <a:t>Дядя Вася умер13 апреля в 2 часа ночи1942 г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Calibri"/>
              </a:rPr>
              <a:t>Мама - 13 мая в 7 часов 30 минут утра 1942 года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Calibri"/>
              </a:rPr>
              <a:t>Савичевы умерли. Умерли все. Осталась одна Таня.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828720" y="109440"/>
            <a:ext cx="7602480" cy="1225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826920" y="3645000"/>
            <a:ext cx="2341800" cy="26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857240" y="214200"/>
            <a:ext cx="55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Calibri"/>
              </a:rPr>
              <a:t>Дети рано взросле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978440" y="785880"/>
            <a:ext cx="3451320" cy="5000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71680" y="1714680"/>
            <a:ext cx="3929040" cy="339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152280"/>
            <a:ext cx="38098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00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ночь на 9 мая 1945 года был подписан акт капитуляции Германии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700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зже, 2 сентября того же года, Япония тоже подпишет акт капитуля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700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ейчас оба этих документа хранятся на Поклонной горе в музее В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038480" y="1295280"/>
            <a:ext cx="4951440" cy="4494240"/>
            <a:chOff x="4038480" y="1295280"/>
            <a:chExt cx="4951440" cy="4494240"/>
          </a:xfrm>
        </p:grpSpPr>
        <p:pic>
          <p:nvPicPr>
            <p:cNvPr id="159" name="" descr=""/>
            <p:cNvPicPr/>
            <p:nvPr/>
          </p:nvPicPr>
          <p:blipFill>
            <a:blip r:embed="rId1"/>
            <a:stretch/>
          </p:blipFill>
          <p:spPr>
            <a:xfrm>
              <a:off x="4038480" y="1295280"/>
              <a:ext cx="4951440" cy="449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038480" y="1295280"/>
              <a:ext cx="4951440" cy="449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slow">
    <p:dissolv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3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3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04920" y="1522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ОЧТИМ ИХ ПАМЯТЬ МИНУТОЙ МОЛЧ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D7B9C-C4A1-4A2F-BF34-FCD4DFE8898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160200"/>
            <a:ext cx="89154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омните! Через века, через года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57400" y="1447920"/>
            <a:ext cx="5027760" cy="5027400"/>
            <a:chOff x="2057400" y="1447920"/>
            <a:chExt cx="5027760" cy="5027400"/>
          </a:xfrm>
        </p:grpSpPr>
        <p:graphicFrame>
          <p:nvGraphicFramePr>
            <p:cNvPr id="166" name=""/>
            <p:cNvGraphicFramePr/>
            <p:nvPr/>
          </p:nvGraphicFramePr>
          <p:xfrm>
            <a:off x="2057400" y="1447920"/>
            <a:ext cx="5027760" cy="502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1447920"/>
                      <a:ext cx="5027760" cy="502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8" name=""/>
            <p:cNvSpPr/>
            <p:nvPr/>
          </p:nvSpPr>
          <p:spPr>
            <a:xfrm>
              <a:off x="2057400" y="1447920"/>
              <a:ext cx="5027760" cy="50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slow">
    <p:dissolv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786EE-987B-4D5C-8AF5-D1ADC81CAA0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03040" y="52560"/>
            <a:ext cx="8077320" cy="62481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6520" cy="45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4016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0920" y="1484280"/>
            <a:ext cx="8569080" cy="5184720"/>
          </a:xfrm>
          <a:prstGeom prst="rect">
            <a:avLst/>
          </a:prstGeom>
          <a:solidFill>
            <a:srgbClr val="72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К тем, кто воевал, 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к тем, кто не знает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что такое войн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обращен мой рассказ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Смотрите и слушай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 –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с вами говори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Истор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Историей стала Войн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501480"/>
            <a:ext cx="8335800" cy="70344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1c1c1c"/>
                </a:solidFill>
                <a:latin typeface="Tahoma"/>
              </a:rPr>
              <a:t>И пусть поколения помнят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4248000" cy="4773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72000" cy="2709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780000" y="3716280"/>
            <a:ext cx="2771640" cy="3286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516720" y="4005360"/>
            <a:ext cx="2771640" cy="2997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0" y="3933720"/>
            <a:ext cx="2771640" cy="3068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1476360" y="4437000"/>
            <a:ext cx="6264360" cy="1366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2  июн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63640" y="2349360"/>
            <a:ext cx="5400720" cy="134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 часа утр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8360" y="4005360"/>
            <a:ext cx="7848720" cy="2262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a231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1941 год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a231e"/>
                  </a:gs>
                </a:gsLst>
                <a:lin ang="5400000"/>
              </a:gradFill>
              <a:effectLst>
                <a:outerShdw dist="17819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 -6 L 2.84525 -7 L -0.00399 -0.55054 E">
                                      <p:cBhvr>
                                        <p:cTn id="18" dur="3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click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click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 -6 L -2.9239 -6 L -0.00399 -0.24867 E">
                                      <p:cBhvr>
                                        <p:cTn id="37" dur="5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0920" y="4508640"/>
            <a:ext cx="439236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ahoma"/>
              </a:rPr>
              <a:t>Такою всё дышало тишиной,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ahoma"/>
              </a:rPr>
              <a:t>Что вся земля еще спала, казалос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ahoma"/>
              </a:rPr>
              <a:t>Кто знал, что между миром и войн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ahoma"/>
              </a:rPr>
              <a:t>Всего каких-то пять минут осталось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27640" y="549360"/>
            <a:ext cx="4465440" cy="573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1619280" y="333360"/>
            <a:ext cx="5398920" cy="6189840"/>
            <a:chOff x="1619280" y="333360"/>
            <a:chExt cx="5398920" cy="618984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1619280" y="333360"/>
              <a:ext cx="5398920" cy="618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1619280" y="333360"/>
              <a:ext cx="5398920" cy="61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2746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     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189000"/>
            <a:ext cx="4211640" cy="6408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720000"/>
                </a:solidFill>
                <a:latin typeface="Tahoma"/>
              </a:rPr>
              <a:t>Победа под Сталинградом вошла в мировую историю как символ стойкости, мужества и героизма советского народ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0" y="189000"/>
            <a:ext cx="4691160" cy="6406920"/>
            <a:chOff x="0" y="189000"/>
            <a:chExt cx="4691160" cy="640692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0" y="189000"/>
              <a:ext cx="4691160" cy="640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0" y="189000"/>
              <a:ext cx="4691160" cy="64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4" name=""/>
          <p:cNvSpPr txBox="1"/>
          <p:nvPr/>
        </p:nvSpPr>
        <p:spPr>
          <a:xfrm>
            <a:off x="1042920" y="5950080"/>
            <a:ext cx="2808360" cy="43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17 июля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click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click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59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371520"/>
            <a:ext cx="9144000" cy="6486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0" y="476280"/>
            <a:ext cx="9144000" cy="6054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5819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-76320" y="1808280"/>
            <a:ext cx="9220320" cy="36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9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0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1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2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3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284720" y="4076640"/>
            <a:ext cx="485928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532720" cy="3735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413480" y="412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700360" y="189000"/>
            <a:ext cx="6119640" cy="70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нег, политый кровью…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4013280"/>
            <a:ext cx="7742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редняя продолжительность жизни советских офицеров в боях за Сталинград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мандира  взвода-3 дн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мандира  роты-7 дн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мандира  батальона-11 дн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мандира  полка- 20 д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лдата-1 д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07:04:08Z</dcterms:created>
  <dc:creator>-</dc:creator>
  <dc:description/>
  <dc:language>en-US</dc:language>
  <cp:lastModifiedBy>Руслан</cp:lastModifiedBy>
  <dcterms:modified xsi:type="dcterms:W3CDTF">2011-05-10T17:47:57Z</dcterms:modified>
  <cp:revision>68</cp:revision>
  <dc:subject/>
  <dc:title>Сталь и огонь Сталинграда</dc:title>
</cp:coreProperties>
</file>